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31E4-4348-4978-9701-64A03298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00C-C9F1-4654-AB34-48BFE59A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019-328A-4592-9CAA-5DA11077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25B-8C0E-44E0-8B82-90F6BBD9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6D2-E59F-48A0-8B38-72324B9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729-B760-4903-961A-1FE1252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C2F-A96B-40B1-85A4-478C5AB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2F9-809C-4320-882D-67EE6CD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7F2-735F-4045-8EC7-A22FB0C1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E82-8E79-4AD8-84AB-4CDD64B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39A-6707-4BAF-8DA9-FC39B6CF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D12-F873-4F24-9248-F5349FB4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DEC-EDF8-4F9D-A0A9-DE85112A9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caralarmoff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ipdn10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audio" Target="../media/caralarmoff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ipdn102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caralarmoff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ipdn10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audio" Target="../media/caralarmoff.wav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aralarmoff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31840" y="237348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8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5408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4080" y="23367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73480" y="1666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96200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57280" y="41148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192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55800" y="47847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584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23920" y="358920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4148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41560" y="1636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0816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1240" y="16495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264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57040" y="1157400"/>
                <a:ext cx="29084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÷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273480" y="2367000"/>
            <a:ext cx="61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1480" y="47768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20880" y="16304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1760" y="5283360"/>
            <a:ext cx="9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92280" y="61023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6760" y="52974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840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5760" y="101592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6.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20840" y="2735280"/>
            <a:ext cx="18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4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43080" y="285588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2960" y="2698920"/>
            <a:ext cx="145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151000" y="283968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76560" y="44766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38520" y="330372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0920" y="3946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95136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0760" y="4094280"/>
            <a:ext cx="971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76560" y="202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7440" y="52959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0240" y="20113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55760" y="32432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1920" y="44910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1200" y="1128600"/>
                <a:ext cx="42166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5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413160" y="20192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4080" y="51879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240" y="103032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3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flipV="1" rot="16200000">
            <a:off x="137988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 rot="16200000">
            <a:off x="180216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0" name=""/>
          <p:cNvCxnSpPr/>
          <p:nvPr/>
        </p:nvCxnSpPr>
        <p:spPr>
          <a:xfrm flipV="1" rot="16200000">
            <a:off x="294840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 rot="16200000">
            <a:off x="337068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20840" y="2735280"/>
            <a:ext cx="18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4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43080" y="285588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1760" y="2698920"/>
            <a:ext cx="52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51000" y="283968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87680" y="44496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2640" y="327672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3919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392436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4880" y="4067280"/>
            <a:ext cx="971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00280" y="20350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11560" y="526896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3960" y="20224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39880" y="32162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86040" y="44640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78000" y="1143000"/>
                <a:ext cx="295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÷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936880" y="20304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8200" y="51609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2640" y="1003320"/>
            <a:ext cx="326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2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20840" y="2735280"/>
            <a:ext cx="18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8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5588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2960" y="2698920"/>
            <a:ext cx="145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51000" y="283968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70200" y="4476600"/>
            <a:ext cx="13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8520" y="330372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3680" y="3946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5136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0760" y="4094280"/>
            <a:ext cx="971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76560" y="2023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27440" y="52959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41760" y="20113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5760" y="32432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1920" y="44910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96920" y="1171440"/>
                <a:ext cx="42163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8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413160" y="20192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1879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3240" y="103032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3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/>
          <p:nvPr/>
        </p:nvCxnSpPr>
        <p:spPr>
          <a:xfrm flipV="1" rot="16200000">
            <a:off x="137988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3" name=""/>
          <p:cNvCxnSpPr/>
          <p:nvPr/>
        </p:nvCxnSpPr>
        <p:spPr>
          <a:xfrm flipV="1" rot="16200000">
            <a:off x="180216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 rot="16200000">
            <a:off x="2948400" y="3157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 rot="16200000">
            <a:off x="3370680" y="314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 the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78360" y="110160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5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1187280"/>
                <a:ext cx="3149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r>
                      <m:t xml:space="preserve">6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0" name=""/>
          <p:cNvCxnSpPr/>
          <p:nvPr/>
        </p:nvCxnSpPr>
        <p:spPr>
          <a:xfrm flipV="1" rot="16200000">
            <a:off x="1987920" y="1544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 rot="16200000">
            <a:off x="1589400" y="1540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035080" y="109692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1680" y="228600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56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08120" y="2398680"/>
                <a:ext cx="4021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5" name=""/>
          <p:cNvCxnSpPr/>
          <p:nvPr/>
        </p:nvCxnSpPr>
        <p:spPr>
          <a:xfrm flipV="1" rot="16200000">
            <a:off x="2111760" y="27129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V="1" rot="16200000">
            <a:off x="1713240" y="2708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 flipV="1" rot="16200000">
            <a:off x="1310040" y="27162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963960" y="356868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1.4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4200" y="3651120"/>
                <a:ext cx="32464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0" name=""/>
          <p:cNvCxnSpPr/>
          <p:nvPr/>
        </p:nvCxnSpPr>
        <p:spPr>
          <a:xfrm flipV="1" rot="16200000">
            <a:off x="2075040" y="401004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734000" y="4689360"/>
            <a:ext cx="32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0.02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44480" y="4772160"/>
                <a:ext cx="40212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3" name=""/>
          <p:cNvCxnSpPr/>
          <p:nvPr/>
        </p:nvCxnSpPr>
        <p:spPr>
          <a:xfrm flipV="1" rot="16200000">
            <a:off x="2134080" y="51166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 rot="16200000">
            <a:off x="1735560" y="51116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55" name=""/>
          <p:cNvCxnSpPr/>
          <p:nvPr/>
        </p:nvCxnSpPr>
        <p:spPr>
          <a:xfrm flipV="1" rot="16200000">
            <a:off x="1332360" y="51195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146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3, 5 – 6 #1-1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5, 5 – 7 #1-2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10-19T19:06:58Z</dcterms:modified>
  <cp:revision>59</cp:revision>
  <dc:subject/>
  <dc:title>Slide 1</dc:title>
</cp:coreProperties>
</file>